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5.wmf" ContentType="image/x-wmf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C4E-11E0-4611-AD98-18B7ABB426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C8B-1118-476B-98FB-5539929A6B5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B2C-9160-4A13-9387-31A97CE5CE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500-617C-462C-BCF5-A2DCEC919F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B435C-39B8-463C-AE9C-D4F79ABBBC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F72EC-5955-4955-AFE1-7964EAEBAA7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7C807-F390-41B8-9F1F-3B7C9806E3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612EE-879B-429F-861C-CD67546934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A920B-16EC-4C2E-A0C1-20ED220F70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EF360-ABBF-4BD6-860E-9CFE16EA70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C4F0F-F93D-48FA-9935-D0CEC047DC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928E9-3497-4055-91E7-EC8BBB7596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34CCF-2596-4FB8-91FC-E6939B2D84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70377-E21D-44A3-8CB0-0EBB45BB5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B7C5B-FDBD-415B-AC7D-433503F839A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EF68-A013-4C35-9206-EE1229F5C3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DF1E8-42E6-4EAD-B3DE-2BCB3D933E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59F1E-85D7-4798-9169-986BA589B7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0C0F3-67A5-4C8B-96CE-89D3C51E5C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0B409-72F1-45F7-90BB-98E8A52291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5F20C-B4AB-4BFB-827C-B4112DC121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2DF6D-6B96-48D2-B0E4-9937CAE73D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A9D5D-B389-4D18-BE60-9C0BEBBFDB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FC1C1-98EC-432A-988A-CF971F4A6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79812-E2E0-4B0F-9C14-8D03EF6BB6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5DA4-EC35-44C1-8E16-51FDA11344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D8C6-DDC1-475E-9818-304BCE0697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7B5C-E81F-4D25-8EE4-00F7793D7B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109E-3E75-4975-B0BE-433F5DEB66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17E0-A3F1-4E89-A94E-A9D41FB862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6BFB-4AEF-4C53-A72B-B606E7CDA0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2D6B-D235-443A-8DF3-BEE6AEB8CC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B276-EE72-4889-A2BE-A58511A005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72B1-061E-470D-8F33-500B2242A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240C-9A6B-423E-BB99-AF2250DC2F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A36E-9C33-4E7C-8F3E-4777C53494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13D9-193D-489E-AC0D-0C985ADC9A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E325-D522-4DC1-BBD4-810323B904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942F4-3DD7-4773-B523-2D1E81E7BE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E8BCC-5A7C-43AE-9EE4-C634B758E3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2FC33-4381-4C90-9481-B21DCD59B4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5786A-0D52-4E25-A8F7-DC6FE0DE16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FD451-BAF6-42ED-B2FA-4019F405307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543C1-8E87-4BAF-A639-A71716173D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A1F9B-7B5A-4B0F-921C-279D805222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7F31-C6F8-4418-AFEA-4D846F2DBA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41434-AA66-4722-B32F-8B377CF1BA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90A30-9BE4-4AF8-BAA2-7A11A50042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4EB11-216B-481B-9A76-4265FD9C79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C75AA-B91A-48B0-924A-2BB3A646D2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2A4B3-95C2-415A-ABBA-DD4977BD19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0FCC2-FE06-4BA3-9A41-57CF469352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E5996-737A-463D-8A43-E6B8C43630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BA653-480D-442D-874D-CB01F1E50C0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7B77C-DEB7-4E09-942F-8A643C7E96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CE7B7-CC4A-4C8F-8094-BAA65C9E5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E932-680C-438F-8515-0137FAA8B8C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A05CB-9BA2-4990-8945-1485D4B167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D6CD8-B925-4627-9963-8527B39F42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28228-AFAE-4348-8F11-3C3F1DCB7D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8E3C6-9448-4720-9161-4016ADA27E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C4509-42CE-44F0-8A42-792169874E9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E088D-A4F6-4CDC-98C6-DCB1F16875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9629C-B73F-40A1-92FF-68247577924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5423-8964-42E0-ADA0-5F48EAB346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C67A-6FE9-41C7-B878-4BE174141A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6FA5-CA06-4BC0-A7B7-178EF8AE5A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80DE-A499-43E8-9E76-FF137BB3450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E693-96A5-4942-B2E4-8CE48B0533C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DCE7-8779-44FC-A7C1-A32D4C088D8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2518-E9A4-4778-8360-04A152B81DD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D8AB-DE74-4539-B8C8-1945D760B62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B1E5-AE23-457F-A728-C3043E337AD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A65F-9C9B-4375-8C80-89EBF54A10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D35F-D3DE-4CC8-9DFB-B2EFEFA1867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AD34-3050-4FEE-BE4F-4B6D7F96D05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C88E-7B2D-46D5-9C43-4BDCDA54D66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E45E8-66A7-43CA-B878-EF0F28E6B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B49C-FAAE-42B3-ABBA-965E973D635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34265-740E-4095-AB1A-A598060352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11540A-5DF7-4AF0-8CBE-F53A6D1993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9A548-546B-4380-9075-6C0870F2B4C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9504D-6541-4709-BFC8-2C306FA5F5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C95A16-58ED-423A-BD4C-A7C81FCC1B4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8AA8E-65DF-4B7E-9193-408FA3FBAC4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9D8ED-A863-47CF-8287-3B1D25FD75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A791B-FF0A-4840-9F33-D0F5C0C0B6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D0291-218C-456A-9893-71CB7B28FE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4ED0E-8D12-4959-83D4-958016EB36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D99E-C1E9-4AC5-829C-05CA94FC023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709A03-7365-4CB4-85DD-762EBE52FF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F404-38EF-4474-BC89-F39A93CDB72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62FEE-D34C-4BD0-8621-A1F9A9B0EFF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E52F7-254D-4E62-91AB-5F7190D394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508F4-B00B-4939-A0DC-070CA1F977F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AAD07-12D0-46D2-84A9-31A257EABCB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29E41-3063-482A-85F3-264DF04EE09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F143D-DC83-43CD-8C16-6E585141A77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2A12F-F1BA-4F54-BB29-2E51AD20A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E232-8A6C-4E30-AB7A-E20AA23B91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38E8B-D910-4975-AD32-A5399D599DD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26FA3-265F-46AC-B40C-5EA6CE1F73A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227A6-A556-415D-BF84-DC923C55DB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CAF8F-7166-400F-BDFE-4137EC48A87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4F0AC-6152-48DA-9076-633E0517C61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70A1-648E-4747-88E4-04C4D80018D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6B9F-6124-455F-B5F9-ED31C3DC07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EB82-C58E-4BD9-B7A8-A77A94F0DAD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7FFF-3820-49DC-80ED-89EA6F3E09D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4569-A4C9-4739-A9BF-9B2344BF0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95C9-6623-454D-B127-B10C5DDA0E4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DFF1B-95D3-4370-9E6F-61C65FF6F69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B76F-051F-4BCB-B7DB-38A53B4E547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B9E6-2288-4C39-9334-C7AE86C28E5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9647-D1DE-487B-9E77-78589E1E6D9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C62A-3877-4324-919A-4504E3526CA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9B8E-E02A-4D2C-B410-59C5ED39FEB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5902-9569-4773-BD86-631409AEADA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8C49A-17E1-4077-A1EA-8B2382032E6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FCE27-2E70-4149-B592-2766300FE6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F831E-EFBD-44AD-99A7-C86F7CAAC9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1666-1AAF-4849-BDF5-BE86BE07826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93CF6-1008-43DE-8CD2-7A80DBCD4E7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14795-7E91-4D56-81CD-00671157F2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11590-8772-4C7B-A768-A94CCCDFF71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EE117-C1B7-4692-AD05-D2D28C01A79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79DDC6-1640-497A-82F0-1632000AC9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E8D0B-8D00-4C90-866F-76478FF4A55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F9779-DCAE-46A8-B0F7-2544F1C87C8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39DA5B-ABE2-4826-93D0-9B0925167E6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E1BDB-3036-422B-BE86-4F6D7AE2F3D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7C15F-D7A6-465D-B94C-83280C0D2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1669-603B-4609-907C-D1C604E2D56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14CF1-3AD1-4FA5-894A-FE3A67D5A1C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BE6BA-7346-4A97-A171-F4D6342EA45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9D67A-93CC-46F9-A243-3154E3D8AE7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ED9B6-C60D-4159-8639-DDFB5555A55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054E1-DC4A-457F-BFB8-D579A9CB3B9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B9BF9-93B7-4CBB-AB14-D8D7E6D6CC3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D2BFF-BBFC-4B5B-BABF-AB05DEC4257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15AD0-24DF-4252-81CC-1C69A02A6FE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89611-15DF-4BC6-8073-11C73F1FCBC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39DA1-7082-477C-AFE6-5615BA4ECC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48D9-61DE-4529-89AE-6B5A6DB6906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27ABB-FB2C-4A6B-8966-41B3863F678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5BCEF-4ADB-4BB8-82B0-B623EE03CB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CF78-FE79-4DD5-B522-B539A7EBA61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F3E4-C6F8-4682-89CF-6B241C12E32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7E97-5BDD-4BC1-A630-EE61F56F2AC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73D6-65E6-4F9C-9323-16CDDC4C5AC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61AFA-B213-4AE8-8E1D-0E805F3EC54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FAA9-3411-4063-8662-08811D92F77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301D-31C0-4F60-8C3C-51BAE18561A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6C58-5BCB-4C39-8394-A1F10BB7C0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8088-8A02-4433-B28B-945AA340017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FDA4-39B5-42FA-8E84-BFE29F467AF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3BB19-51A1-4BC1-A72B-83571F434F8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7FAC75-0C03-47A3-96F8-5CB1D22C879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8E2FE-945B-4120-807A-6FDD2ADA408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2E93D7-2132-4C05-9446-D3F6D6644C2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BD2204-BB0B-4E73-87EA-FC642E53D1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4813B-8C66-4C5F-819D-C117BEEF9B5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0B9962-0A41-4AFE-A359-3147D49843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62DE6-0736-4F0C-B52E-24EA8F4ACE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BF06A-3713-465B-B989-AD056345539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512C1-BECB-448B-9B97-C1F6711A3D1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E7042E-C2F4-458C-AA0E-5B67F5D2FA9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94B06-B9F8-4BB3-A5C4-0D53B8DC907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A694F8-20FF-449B-A68F-3A7A9FB05FD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2F1A7-B8F6-4B01-8D25-963467F1207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7B98E-0D13-4FFD-ADE2-47BE6B6220D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AD389-F552-4E66-9ABC-4A75158473E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4C45C-2E84-4C9E-B596-B4282AD0FB5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AEEF3-8183-4A94-8DEA-76738147B1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8BB68-F766-4D0F-AABF-3F3F726FBB7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73437-269C-4BE0-8DBE-243D5EC978C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75839-859D-431F-8866-CC04679E8B4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B7F06-5811-4EC6-8332-303FDCC6941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C5B2A-A4A5-49B8-B896-74BB52C5FBC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6F731-0FEF-418B-B07D-4E4628E67C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95EE6-43FC-48D1-81E2-7D766E716C3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2F1E-C267-4E9C-BE04-D05100EB5C0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E4CF-6666-4926-879D-F0D91B8CB3F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3AAE-0C02-494E-854E-1E94657BC7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8CA8-D44C-4F64-BFAC-08229ACB58D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FAC21-098C-445F-A7DA-2E3A4C27C52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BAD6-CABB-49A3-A267-D9F1A940AD4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C7AB-B495-400C-8E31-73F3E4A01A7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2E5F-B80A-49BB-B602-6ECB5B9EFFB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B8F0-45CF-499F-A4D4-75857502E7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14C8-1B0B-4693-88EE-96C097D4AD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9A108-AB86-4C2B-B2CB-6F95FD93A87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0986-AECD-4784-8358-7DDAB4A40C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40417-8B66-4670-AC08-85BDA85886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6AA698-2D9B-4F1C-A2E7-3C8CAAE71B8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8142ED-310C-463C-838A-DC64C00289C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EC388-05FB-41F0-A677-9E821A0749A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ED4540-9833-44DB-8D71-805D2A50AD6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E26C8-648E-436E-8C3B-27D14092348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215FFA-FE85-4126-9D6F-52A31D8DB14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8DAA5-27EF-41A2-81BB-05A459D4E12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779EE0-4BC6-437A-874E-3AEA6296BA3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E8840-59FC-4D15-B9D8-AA427B1CA42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A50D3-CC17-4BFF-9347-C05BC4732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F46FC0-12D3-4323-9252-57633A0648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28DF4-0C75-47D7-B65B-4AC16E9B569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5C012-71C2-45AE-ADEA-5214C0FC666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117C9-EB35-4EFA-BE57-A97D8CF66B1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D2C9A-CB65-4E1D-BE00-BCEA6D4882F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96B85-4F94-4687-A386-E64A5692288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D202F-4746-4CC8-A13D-3ADD78A259F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4FBDC1-053F-43EC-989D-99BF8EE4F97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089D6-98C0-4E2F-8BFB-54674AABC33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71C89-3B54-4BE7-8B56-1D35A54DC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8B37B-440C-4EFF-A518-17F9B86C43F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A613D-ED99-4D66-95C7-18AA7A38EFB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E0EF3-BE49-40D0-A1D4-D365C594620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2631-EDDB-4A10-AD91-F1D677E9792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14E8-DFEB-409C-9256-18CB39C9F60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5BC5-6EA0-40B7-B071-E746ADFC85A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646CC-E524-40D7-96A0-E641DB11736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B8192-47BD-4890-B3A5-1BB35204E82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97F9-6335-4C95-AB95-31272B8C8EF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A6DAA-BCC2-4E07-B7FF-3C33E1DAE2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1AA24-0046-4396-B176-5AAE3EF1279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7FEF-B17E-47A2-B1C9-BC9518D5C37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7CE3-29B7-4917-AF0A-700A81A8097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6A34-2384-4B80-9CC5-83EFC036373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48FD-82D2-48BF-A0FE-516F88CD8F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B14C-8BA5-4ED1-A19D-95210BC178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8C63-E351-4424-98E9-E336B8B3B6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296C-79D9-4502-A3C9-87E268EA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F08C-EFD0-453B-AFD3-EA5B3FB9FB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9436-A7AD-4E5C-AD6C-C62D94DDAF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167F-8DBF-4389-8946-5F3272BB5C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ADA4-D89A-4CDB-A5C6-058827E7FB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7704-8306-4CF3-86FF-EB4DA84A27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B57B-789B-4BBC-8298-259FDC8738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20C3-3AC1-4326-BA89-F49864F69F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369A-20B5-437E-9F9E-4B78F8DF8D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78EE-D3EE-48A6-9EA4-A4851615B3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A17-FB8D-4508-A794-261EC3936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785-1112-4C94-A4A2-1E8CD5A628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FC4-6526-4AD8-B10B-60A804A2C4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C15-A1B4-46C8-AD15-B1B9D4CFF6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C91-7D7F-4CD5-9804-D13CF19CDB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A3F-E5E3-4380-8F19-BCDB091BF9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ADC-AB52-4C60-82D4-417DDFA3E2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94C-2208-4DA7-9FB8-6DFC5A1AFB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4C0-3852-4024-9D2F-78474FB161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10E-755B-47CE-BEC9-F59EE2F818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49F-118F-47E5-A65D-2C112B464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D5-0FCF-468E-93AD-7357B8B4C6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F3415-77C3-46A5-9350-10706B15C9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50196-256A-4534-A1D1-21E5F6EEB1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084C9-C543-4AE5-AA7B-3C5BA7B4E8E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3770E-999B-43CA-8AA2-EDD690B7B5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AC54C-224F-4B5A-BBC2-FA2B17F1F0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34037-8970-455C-93C7-F55D2E9DA0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90AD4-9B70-4C38-AEBE-29E026CF7F7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28E0-76B1-491B-8F7B-76214810FE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72C81-F072-45A4-87FE-F0A9B94A8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02994-732A-4E03-A693-99F32D7959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408F3-F80D-4016-8AFF-464CFC7296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4712F-811D-4E3F-A300-774807C61A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4907F-1C8E-4D83-B50B-12E0A0C72E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7FAC-1A02-4627-B457-AD09083057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46A7-405C-4FE9-A617-84BE021D57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63B1B-7316-468B-9182-DAB22DD224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5CF2-2384-42D0-875A-B3FE3D1B6F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3948-453B-44AC-8125-73CDBEA6AB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47F9-AE0B-431A-B823-D06E513BA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C5412-DD30-49BB-B42B-2970CBADA6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D24FE-5037-4B8C-834A-E18F6A9BBF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1FF78-D8BA-4F4F-8376-76B10B8BF3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3FF4F-2A01-4DB9-AFEC-66AFDFEC1E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F93F0-E3A3-4138-9C61-5F0CF96018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783-4264-4177-BFC7-48A615F55F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858A-86E5-4A38-B6DD-089B1030B8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B34-5294-45FF-91C9-1EF8DE55FC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B8B3-AEA1-4251-B651-D996794F9C3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6B2-E1FF-4286-85EE-8697D1CED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95F-8574-4A24-B940-32A67792AF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9B4-E6D6-4714-A74D-FA6913AA04B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04D-D818-4AEE-BFE6-F9433C5A62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D99-E291-4938-893B-69DF506F76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DCA6-3609-4732-852E-C7518C0EAB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036-5CEA-4991-A1E0-6E22683D30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1B8-0DA3-449D-B12E-B6F4A77FCF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E8952-E32C-4528-B409-20793ABC8D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13379-ED51-436E-8043-A3EA93D601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7B5E6-2266-48BE-8DB3-7DC35FD9F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D6D8-757E-4E2B-9759-0A9C689CC0A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C60-7FCC-4D12-B266-E5F1EC47EF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D4F5-3A45-401C-8E83-74513A07FBC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B2B-F403-4D5E-BD2C-2759CCE925A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7271-291B-494C-B4D2-9D14EEE8B14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416-5C53-4E90-84BE-E9214A47ADB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1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125-6509-4D33-8AFD-7E718ABC000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8EEB-479E-4C86-9340-382F64A2316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1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730-84A6-4981-95B9-E8609F23E6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F6F-2AD3-4A7E-A7DE-6C125BE58F0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1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3B6-DEDA-413C-91DD-4DBADAC8E67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sldNum" idx="1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D2DF-57E2-4E25-AD06-B61DFCB81CC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26D4-E10C-418B-A121-C278CBE093D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216D-1A18-41B4-B6A3-069C105EF4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2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FA3-13DF-4940-B802-425B765FEC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2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E0E5-EE22-4909-A2C2-2DCB9E9175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sldNum" idx="2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F8A-DC76-4470-B36E-373CF28EB3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6C2-8891-427D-824F-A509F86B6E4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89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ldNum" idx="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075B-0E33-4D37-8282-E848A9E3880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D3F-CC4D-407C-A586-315CA549DBB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A7C-D96E-41CA-B0B3-809EEEAC314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45F-1372-4488-9012-7BDE4E9EDE1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F8B4-3BC8-461A-9DAA-0E086326F7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9E1-4F72-4F83-AFCC-E43D786795C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8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onter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 Box 3"/>
          <p:cNvSpPr/>
          <p:nvPr/>
        </p:nvSpPr>
        <p:spPr>
          <a:xfrm>
            <a:off x="1251000" y="450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5 CuadroTexto"/>
          <p:cNvSpPr/>
          <p:nvPr/>
        </p:nvSpPr>
        <p:spPr>
          <a:xfrm>
            <a:off x="67284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 Box 4"/>
          <p:cNvSpPr/>
          <p:nvPr/>
        </p:nvSpPr>
        <p:spPr>
          <a:xfrm>
            <a:off x="0" y="5551560"/>
            <a:ext cx="896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4" name="1 Imagen" descr=""/>
          <p:cNvPicPr/>
          <p:nvPr/>
        </p:nvPicPr>
        <p:blipFill>
          <a:blip r:embed="rId1"/>
          <a:stretch/>
        </p:blipFill>
        <p:spPr>
          <a:xfrm>
            <a:off x="392040" y="1781280"/>
            <a:ext cx="819468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 Box 3"/>
          <p:cNvSpPr/>
          <p:nvPr/>
        </p:nvSpPr>
        <p:spPr>
          <a:xfrm>
            <a:off x="1728720" y="512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 Box 4"/>
          <p:cNvSpPr/>
          <p:nvPr/>
        </p:nvSpPr>
        <p:spPr>
          <a:xfrm>
            <a:off x="250920" y="5627520"/>
            <a:ext cx="871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8" name="1 Imagen" descr=""/>
          <p:cNvPicPr/>
          <p:nvPr/>
        </p:nvPicPr>
        <p:blipFill>
          <a:blip r:embed="rId1"/>
          <a:stretch/>
        </p:blipFill>
        <p:spPr>
          <a:xfrm>
            <a:off x="527040" y="1932120"/>
            <a:ext cx="7705800" cy="3454200"/>
          </a:xfrm>
          <a:prstGeom prst="rect">
            <a:avLst/>
          </a:prstGeom>
          <a:ln w="0">
            <a:noFill/>
          </a:ln>
        </p:spPr>
      </p:pic>
      <p:sp>
        <p:nvSpPr>
          <p:cNvPr id="1249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1 Imagen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3657600"/>
          </a:xfrm>
          <a:prstGeom prst="rect">
            <a:avLst/>
          </a:prstGeom>
          <a:ln w="0">
            <a:noFill/>
          </a:ln>
        </p:spPr>
      </p:pic>
      <p:sp>
        <p:nvSpPr>
          <p:cNvPr id="1255" name="Text Box 3"/>
          <p:cNvSpPr/>
          <p:nvPr/>
        </p:nvSpPr>
        <p:spPr>
          <a:xfrm>
            <a:off x="1312920" y="522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5 CuadroTexto"/>
          <p:cNvSpPr/>
          <p:nvPr/>
        </p:nvSpPr>
        <p:spPr>
          <a:xfrm>
            <a:off x="61740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250920" y="5365800"/>
            <a:ext cx="878508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1763640" y="71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1" name="1 Imagen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7572240" cy="3646440"/>
          </a:xfrm>
          <a:prstGeom prst="rect">
            <a:avLst/>
          </a:prstGeom>
          <a:ln w="0">
            <a:noFill/>
          </a:ln>
        </p:spPr>
      </p:pic>
      <p:sp>
        <p:nvSpPr>
          <p:cNvPr id="1262" name="Text Box 4"/>
          <p:cNvSpPr/>
          <p:nvPr/>
        </p:nvSpPr>
        <p:spPr>
          <a:xfrm>
            <a:off x="36360" y="542124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34920" y="5535720"/>
            <a:ext cx="910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1133640" y="1833480"/>
            <a:ext cx="6678360" cy="3202200"/>
          </a:xfrm>
          <a:prstGeom prst="rect">
            <a:avLst/>
          </a:prstGeom>
          <a:ln w="0">
            <a:noFill/>
          </a:ln>
        </p:spPr>
      </p:pic>
      <p:sp>
        <p:nvSpPr>
          <p:cNvPr id="1272" name="5 CuadroTexto"/>
          <p:cNvSpPr/>
          <p:nvPr/>
        </p:nvSpPr>
        <p:spPr>
          <a:xfrm>
            <a:off x="545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158840" y="54936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gosto - octubre 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768320" y="2205000"/>
            <a:ext cx="539604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2 Imagen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97800" cy="1728720"/>
          </a:xfrm>
          <a:prstGeom prst="rect">
            <a:avLst/>
          </a:prstGeom>
          <a:ln w="0">
            <a:noFill/>
          </a:ln>
        </p:spPr>
      </p:pic>
      <p:pic>
        <p:nvPicPr>
          <p:cNvPr id="1279" name="1 Imagen" descr=""/>
          <p:cNvPicPr/>
          <p:nvPr/>
        </p:nvPicPr>
        <p:blipFill>
          <a:blip r:embed="rId2"/>
          <a:stretch/>
        </p:blipFill>
        <p:spPr>
          <a:xfrm>
            <a:off x="1270080" y="3789360"/>
            <a:ext cx="662472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órd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104760" y="1800360"/>
            <a:ext cx="8705880" cy="389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6" name="1 Imagen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5675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3 Rectángulo"/>
          <p:cNvSpPr/>
          <p:nvPr/>
        </p:nvSpPr>
        <p:spPr>
          <a:xfrm>
            <a:off x="2916360" y="5216400"/>
            <a:ext cx="6130800" cy="190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1 Imagen" descr=""/>
          <p:cNvPicPr/>
          <p:nvPr/>
        </p:nvPicPr>
        <p:blipFill>
          <a:blip r:embed="rId1"/>
          <a:stretch/>
        </p:blipFill>
        <p:spPr>
          <a:xfrm>
            <a:off x="2916360" y="282600"/>
            <a:ext cx="6153120" cy="5522760"/>
          </a:xfrm>
          <a:prstGeom prst="rect">
            <a:avLst/>
          </a:prstGeom>
          <a:ln w="0">
            <a:noFill/>
          </a:ln>
        </p:spPr>
      </p:pic>
      <p:sp>
        <p:nvSpPr>
          <p:cNvPr id="1221" name="6 CuadroTexto"/>
          <p:cNvSpPr/>
          <p:nvPr/>
        </p:nvSpPr>
        <p:spPr>
          <a:xfrm>
            <a:off x="3672000" y="5997600"/>
            <a:ext cx="56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1 Rectángulo"/>
          <p:cNvSpPr/>
          <p:nvPr/>
        </p:nvSpPr>
        <p:spPr>
          <a:xfrm>
            <a:off x="3672000" y="57913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1 Rectángulo"/>
          <p:cNvSpPr/>
          <p:nvPr/>
        </p:nvSpPr>
        <p:spPr>
          <a:xfrm>
            <a:off x="3635280" y="6237360"/>
            <a:ext cx="54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mayo – octubre 2015.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Box 3"/>
          <p:cNvSpPr/>
          <p:nvPr/>
        </p:nvSpPr>
        <p:spPr>
          <a:xfrm>
            <a:off x="1332000" y="94788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- octubre 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8" name="1 Imagen" descr=""/>
          <p:cNvPicPr/>
          <p:nvPr/>
        </p:nvPicPr>
        <p:blipFill>
          <a:blip r:embed="rId1"/>
          <a:stretch/>
        </p:blipFill>
        <p:spPr>
          <a:xfrm>
            <a:off x="968400" y="2084400"/>
            <a:ext cx="7419960" cy="336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5 CuadroTexto"/>
          <p:cNvSpPr/>
          <p:nvPr/>
        </p:nvSpPr>
        <p:spPr>
          <a:xfrm>
            <a:off x="1517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1" name="1 Imagen" descr=""/>
          <p:cNvPicPr/>
          <p:nvPr/>
        </p:nvPicPr>
        <p:blipFill>
          <a:blip r:embed="rId1"/>
          <a:stretch/>
        </p:blipFill>
        <p:spPr>
          <a:xfrm>
            <a:off x="1433520" y="1460520"/>
            <a:ext cx="62769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1 Imagen" descr=""/>
          <p:cNvPicPr/>
          <p:nvPr/>
        </p:nvPicPr>
        <p:blipFill>
          <a:blip r:embed="rId1"/>
          <a:stretch/>
        </p:blipFill>
        <p:spPr>
          <a:xfrm>
            <a:off x="184320" y="2637000"/>
            <a:ext cx="87246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6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5-09-24T21:11:06Z</cp:lastPrinted>
  <dcterms:modified xsi:type="dcterms:W3CDTF">2015-12-10T13:35:53Z</dcterms:modified>
  <cp:revision>95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